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8A2A4-175B-41AD-BC5F-31A3C5E8A193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BFC9-3E8E-45C8-AB3D-510680631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AE80-090B-48DD-A1D6-C840B8E85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F0D4-36CE-4A2E-B4EE-7C2ACBD5F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8BD1-B42F-4790-A78B-970C793F5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DDAB0-A327-43B7-9055-A86DB4FC9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4891D-C4A1-450B-BD6E-79A55BA5E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614F8-4497-428A-9CAB-FECF05B05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5E87C-6DC6-4290-BF4B-A2AA169A7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2C020-E20D-40D5-A6A1-5AA532EAA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159E5-099A-4EEA-8384-04F2FD635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01F23-9449-4FED-9F1B-85D1C93F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9499-954D-4ACF-99D8-219A918C0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49785-BC4D-48AB-B2EE-856C55E5C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71027-D3FE-4F37-A8CB-726672BF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D15B1-EC3F-432A-BA57-6A4C04043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6017F-1FAC-4A94-AB5C-4A49663F6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1F37F-E12B-4C42-8CF9-CFAF26478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85EE-FB0F-45DE-8373-876C3CDDE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CA91-9A4C-44FD-A737-86154D70C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D27B-ED7F-495F-99F5-B65D6DD9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12DB-79CF-4119-9278-5FB7A2F9F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70A2-92F0-4435-A819-459AA54F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294F-3F27-4408-8569-C2CCA886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0B66-2B48-49BB-8A14-263DC232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8F9D6-5A9F-48F6-9C1E-BE7AA83EA12E}" type="slidenum">
              <a:rPr b="0" lang="zh-TW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A101B-85DA-4ADE-81DB-5FF87CC81625}" type="slidenum">
              <a:rPr b="0" lang="zh-TW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2331000"/>
            <a:ext cx="822636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ecff"/>
                </a:solidFill>
                <a:latin typeface="Arial"/>
              </a:rPr>
              <a:t>GNU Radio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971640" y="3885840"/>
            <a:ext cx="7129440" cy="15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eaeaea"/>
                </a:solidFill>
                <a:latin typeface="Arial"/>
              </a:rPr>
              <a:t>Chen Zhifeng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eaeaea"/>
                </a:solidFill>
                <a:latin typeface="Arial"/>
              </a:rPr>
              <a:t>Chen Ke-Yu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Arial"/>
              </a:rPr>
              <a:t>Electrical and Computer Engineering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Arial"/>
              </a:rPr>
              <a:t>University of Florid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rchitecture 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– overall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8400960" cy="2909880"/>
          </a:xfrm>
          <a:prstGeom prst="rect">
            <a:avLst/>
          </a:prstGeom>
          <a:ln w="0">
            <a:noFill/>
          </a:ln>
        </p:spPr>
      </p:pic>
      <p:grpSp>
        <p:nvGrpSpPr>
          <p:cNvPr id="239" name=""/>
          <p:cNvGrpSpPr/>
          <p:nvPr/>
        </p:nvGrpSpPr>
        <p:grpSpPr>
          <a:xfrm>
            <a:off x="468360" y="2205000"/>
            <a:ext cx="1800000" cy="3168720"/>
            <a:chOff x="468360" y="2205000"/>
            <a:chExt cx="1800000" cy="3168720"/>
          </a:xfrm>
        </p:grpSpPr>
        <p:sp>
          <p:nvSpPr>
            <p:cNvPr id="240" name=""/>
            <p:cNvSpPr/>
            <p:nvPr/>
          </p:nvSpPr>
          <p:spPr>
            <a:xfrm>
              <a:off x="468360" y="2205000"/>
              <a:ext cx="1800000" cy="2736720"/>
            </a:xfrm>
            <a:prstGeom prst="rect">
              <a:avLst/>
            </a:prstGeom>
            <a:noFill/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55640" y="5013360"/>
              <a:ext cx="1224000" cy="360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ecff"/>
                  </a:solidFill>
                  <a:latin typeface="Arial"/>
                </a:rPr>
                <a:t>Software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2484360" y="3284640"/>
            <a:ext cx="1366920" cy="1152360"/>
            <a:chOff x="2484360" y="3284640"/>
            <a:chExt cx="1366920" cy="1152360"/>
          </a:xfrm>
        </p:grpSpPr>
        <p:sp>
          <p:nvSpPr>
            <p:cNvPr id="243" name=""/>
            <p:cNvSpPr/>
            <p:nvPr/>
          </p:nvSpPr>
          <p:spPr>
            <a:xfrm>
              <a:off x="2484360" y="3284640"/>
              <a:ext cx="1366920" cy="720720"/>
            </a:xfrm>
            <a:prstGeom prst="rect">
              <a:avLst/>
            </a:prstGeom>
            <a:noFill/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56000" y="4076640"/>
              <a:ext cx="1224000" cy="360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ecff"/>
                  </a:solidFill>
                  <a:latin typeface="Arial"/>
                </a:rPr>
                <a:t>Hardware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rchitecture 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– Hardware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2200" y="2131920"/>
            <a:ext cx="1441440" cy="108108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User-defined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5508720" y="2347920"/>
            <a:ext cx="1800000" cy="792000"/>
            <a:chOff x="5508720" y="2347920"/>
            <a:chExt cx="1800000" cy="792000"/>
          </a:xfrm>
        </p:grpSpPr>
        <p:sp>
          <p:nvSpPr>
            <p:cNvPr id="248" name=""/>
            <p:cNvSpPr/>
            <p:nvPr/>
          </p:nvSpPr>
          <p:spPr>
            <a:xfrm>
              <a:off x="6084720" y="2347920"/>
              <a:ext cx="1224000" cy="792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RF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Front end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508720" y="2708280"/>
              <a:ext cx="50472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7381800" y="2349000"/>
            <a:ext cx="1617840" cy="359280"/>
            <a:chOff x="7381800" y="2349000"/>
            <a:chExt cx="1617840" cy="359280"/>
          </a:xfrm>
        </p:grpSpPr>
        <p:sp>
          <p:nvSpPr>
            <p:cNvPr id="251" name=""/>
            <p:cNvSpPr/>
            <p:nvPr/>
          </p:nvSpPr>
          <p:spPr>
            <a:xfrm>
              <a:off x="7381800" y="2708280"/>
              <a:ext cx="5050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101080" y="2708280"/>
              <a:ext cx="64764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8748720" y="2349000"/>
              <a:ext cx="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 flipV="1">
              <a:off x="8531280" y="2349000"/>
              <a:ext cx="21744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8748720" y="2349000"/>
              <a:ext cx="25092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457200" y="1701720"/>
            <a:ext cx="11206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nde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28600" y="4495680"/>
            <a:ext cx="1512720" cy="1441080"/>
            <a:chOff x="228600" y="4495680"/>
            <a:chExt cx="1512720" cy="1441080"/>
          </a:xfrm>
        </p:grpSpPr>
        <p:sp>
          <p:nvSpPr>
            <p:cNvPr id="258" name=""/>
            <p:cNvSpPr/>
            <p:nvPr/>
          </p:nvSpPr>
          <p:spPr>
            <a:xfrm>
              <a:off x="286200" y="4856040"/>
              <a:ext cx="1455120" cy="108072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User-defined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Code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28600" y="4495680"/>
              <a:ext cx="1512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Arial"/>
                </a:rPr>
                <a:t>Receiver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77920" y="2095560"/>
            <a:ext cx="1512720" cy="1152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3995640" y="2419200"/>
            <a:ext cx="1439640" cy="576360"/>
            <a:chOff x="3995640" y="2419200"/>
            <a:chExt cx="1439640" cy="576360"/>
          </a:xfrm>
        </p:grpSpPr>
        <p:sp>
          <p:nvSpPr>
            <p:cNvPr id="262" name=""/>
            <p:cNvSpPr/>
            <p:nvPr/>
          </p:nvSpPr>
          <p:spPr>
            <a:xfrm>
              <a:off x="3995640" y="2681280"/>
              <a:ext cx="43920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559040" y="2419200"/>
              <a:ext cx="87624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DAC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1835280" y="5075280"/>
            <a:ext cx="7129440" cy="792000"/>
            <a:chOff x="1835280" y="5075280"/>
            <a:chExt cx="7129440" cy="792000"/>
          </a:xfrm>
        </p:grpSpPr>
        <p:sp>
          <p:nvSpPr>
            <p:cNvPr id="265" name=""/>
            <p:cNvSpPr/>
            <p:nvPr/>
          </p:nvSpPr>
          <p:spPr>
            <a:xfrm flipH="1">
              <a:off x="7416720" y="5437080"/>
              <a:ext cx="5032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8101080" y="5076720"/>
              <a:ext cx="863640" cy="360000"/>
              <a:chOff x="8101080" y="5076720"/>
              <a:chExt cx="863640" cy="360000"/>
            </a:xfrm>
          </p:grpSpPr>
          <p:sp>
            <p:nvSpPr>
              <p:cNvPr id="267" name=""/>
              <p:cNvSpPr/>
              <p:nvPr/>
            </p:nvSpPr>
            <p:spPr>
              <a:xfrm>
                <a:off x="8101080" y="5436720"/>
                <a:ext cx="64764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8748720" y="5076720"/>
                <a:ext cx="0" cy="36000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 flipV="1">
                <a:off x="8532720" y="5076720"/>
                <a:ext cx="215640" cy="36000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8748720" y="5076720"/>
                <a:ext cx="216000" cy="36000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3995280" y="5148000"/>
              <a:ext cx="1368360" cy="576000"/>
              <a:chOff x="3995280" y="5148000"/>
              <a:chExt cx="1368360" cy="576000"/>
            </a:xfrm>
          </p:grpSpPr>
          <p:sp>
            <p:nvSpPr>
              <p:cNvPr id="272" name=""/>
              <p:cNvSpPr/>
              <p:nvPr/>
            </p:nvSpPr>
            <p:spPr>
              <a:xfrm>
                <a:off x="4530960" y="5148000"/>
                <a:ext cx="832680" cy="57600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54547a"/>
                    </a:solidFill>
                    <a:latin typeface="Arial"/>
                  </a:rPr>
                  <a:t>ADC</a:t>
                </a: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>
                <a:off x="3995280" y="5410080"/>
                <a:ext cx="415800" cy="0"/>
              </a:xfrm>
              <a:prstGeom prst="line">
                <a:avLst/>
              </a:prstGeom>
              <a:ln w="38160">
                <a:solidFill>
                  <a:srgbClr val="eaeaea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5435640" y="5075280"/>
              <a:ext cx="1873080" cy="792000"/>
              <a:chOff x="5435640" y="5075280"/>
              <a:chExt cx="1873080" cy="792000"/>
            </a:xfrm>
          </p:grpSpPr>
          <p:sp>
            <p:nvSpPr>
              <p:cNvPr id="275" name=""/>
              <p:cNvSpPr/>
              <p:nvPr/>
            </p:nvSpPr>
            <p:spPr>
              <a:xfrm>
                <a:off x="6084720" y="5075280"/>
                <a:ext cx="1224000" cy="79200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54547a"/>
                    </a:solidFill>
                    <a:latin typeface="Arial"/>
                  </a:rPr>
                  <a:t>RF </a:t>
                </a: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54547a"/>
                    </a:solidFill>
                    <a:latin typeface="Arial"/>
                  </a:rPr>
                  <a:t>Front end</a:t>
                </a: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>
                <a:off x="5435640" y="5435640"/>
                <a:ext cx="503280" cy="0"/>
              </a:xfrm>
              <a:prstGeom prst="line">
                <a:avLst/>
              </a:prstGeom>
              <a:ln w="38160">
                <a:solidFill>
                  <a:srgbClr val="eaeaea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 flipH="1">
              <a:off x="2844360" y="5437080"/>
              <a:ext cx="2890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203640" y="5148000"/>
              <a:ext cx="720720" cy="576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FPGA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1835280" y="5148000"/>
              <a:ext cx="934920" cy="576000"/>
              <a:chOff x="1835280" y="5148000"/>
              <a:chExt cx="934920" cy="576000"/>
            </a:xfrm>
          </p:grpSpPr>
          <p:sp>
            <p:nvSpPr>
              <p:cNvPr id="280" name=""/>
              <p:cNvSpPr/>
              <p:nvPr/>
            </p:nvSpPr>
            <p:spPr>
              <a:xfrm flipH="1">
                <a:off x="1835280" y="5436720"/>
                <a:ext cx="288720" cy="0"/>
              </a:xfrm>
              <a:prstGeom prst="line">
                <a:avLst/>
              </a:prstGeom>
              <a:ln w="38160">
                <a:solidFill>
                  <a:srgbClr val="eaeaea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195640" y="5148000"/>
                <a:ext cx="574560" cy="57600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54547a"/>
                    </a:solidFill>
                    <a:latin typeface="Arial"/>
                  </a:rPr>
                  <a:t>USB</a:t>
                </a: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grpSp>
        <p:nvGrpSpPr>
          <p:cNvPr id="282" name=""/>
          <p:cNvGrpSpPr/>
          <p:nvPr/>
        </p:nvGrpSpPr>
        <p:grpSpPr>
          <a:xfrm>
            <a:off x="1835280" y="2421000"/>
            <a:ext cx="936360" cy="576360"/>
            <a:chOff x="1835280" y="2421000"/>
            <a:chExt cx="936360" cy="576360"/>
          </a:xfrm>
        </p:grpSpPr>
        <p:sp>
          <p:nvSpPr>
            <p:cNvPr id="283" name=""/>
            <p:cNvSpPr/>
            <p:nvPr/>
          </p:nvSpPr>
          <p:spPr>
            <a:xfrm>
              <a:off x="2197080" y="2421000"/>
              <a:ext cx="57456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USB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835280" y="270828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2843280" y="2421000"/>
            <a:ext cx="1081080" cy="576360"/>
            <a:chOff x="2843280" y="2421000"/>
            <a:chExt cx="1081080" cy="576360"/>
          </a:xfrm>
        </p:grpSpPr>
        <p:sp>
          <p:nvSpPr>
            <p:cNvPr id="286" name=""/>
            <p:cNvSpPr/>
            <p:nvPr/>
          </p:nvSpPr>
          <p:spPr>
            <a:xfrm>
              <a:off x="2843280" y="270828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203640" y="2421000"/>
              <a:ext cx="72072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FPGA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1995480" y="2085840"/>
            <a:ext cx="3641760" cy="115272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3352680"/>
            <a:ext cx="2514600" cy="381240"/>
          </a:xfrm>
          <a:prstGeom prst="rect">
            <a:avLst/>
          </a:prstGeom>
          <a:solidFill>
            <a:srgbClr val="99cc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USRP (mother board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219320" y="3352680"/>
            <a:ext cx="53316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ecff"/>
                </a:solidFill>
                <a:latin typeface="Arial"/>
              </a:rPr>
              <a:t>Architecture </a:t>
            </a:r>
            <a:r>
              <a:rPr b="0" lang="zh-TW" sz="2400" spc="-1" strike="noStrike">
                <a:solidFill>
                  <a:srgbClr val="ccecff"/>
                </a:solidFill>
                <a:latin typeface="Arial"/>
              </a:rPr>
              <a:t>– Hardware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2200" y="2131920"/>
            <a:ext cx="1441440" cy="108108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User-defined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5508720" y="2347920"/>
            <a:ext cx="1800000" cy="792000"/>
            <a:chOff x="5508720" y="2347920"/>
            <a:chExt cx="1800000" cy="792000"/>
          </a:xfrm>
        </p:grpSpPr>
        <p:sp>
          <p:nvSpPr>
            <p:cNvPr id="294" name=""/>
            <p:cNvSpPr/>
            <p:nvPr/>
          </p:nvSpPr>
          <p:spPr>
            <a:xfrm>
              <a:off x="6084720" y="2347920"/>
              <a:ext cx="1224000" cy="792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RF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Front end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08720" y="2708280"/>
              <a:ext cx="50472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7381800" y="2349000"/>
            <a:ext cx="1617840" cy="359280"/>
            <a:chOff x="7381800" y="2349000"/>
            <a:chExt cx="1617840" cy="359280"/>
          </a:xfrm>
        </p:grpSpPr>
        <p:sp>
          <p:nvSpPr>
            <p:cNvPr id="297" name=""/>
            <p:cNvSpPr/>
            <p:nvPr/>
          </p:nvSpPr>
          <p:spPr>
            <a:xfrm>
              <a:off x="7381800" y="2708280"/>
              <a:ext cx="5050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101080" y="2708280"/>
              <a:ext cx="64764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8748720" y="2349000"/>
              <a:ext cx="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 flipV="1">
              <a:off x="8531280" y="2349000"/>
              <a:ext cx="21744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8748720" y="2349000"/>
              <a:ext cx="25092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3995640" y="2419200"/>
            <a:ext cx="1439640" cy="576360"/>
            <a:chOff x="3995640" y="2419200"/>
            <a:chExt cx="1439640" cy="576360"/>
          </a:xfrm>
        </p:grpSpPr>
        <p:sp>
          <p:nvSpPr>
            <p:cNvPr id="303" name=""/>
            <p:cNvSpPr/>
            <p:nvPr/>
          </p:nvSpPr>
          <p:spPr>
            <a:xfrm>
              <a:off x="3995640" y="2681280"/>
              <a:ext cx="43920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559040" y="2419200"/>
              <a:ext cx="87624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DAC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1835280" y="2421000"/>
            <a:ext cx="936360" cy="576360"/>
            <a:chOff x="1835280" y="2421000"/>
            <a:chExt cx="936360" cy="576360"/>
          </a:xfrm>
        </p:grpSpPr>
        <p:sp>
          <p:nvSpPr>
            <p:cNvPr id="306" name=""/>
            <p:cNvSpPr/>
            <p:nvPr/>
          </p:nvSpPr>
          <p:spPr>
            <a:xfrm>
              <a:off x="2197080" y="2421000"/>
              <a:ext cx="57456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USB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835280" y="270828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2843280" y="2421000"/>
            <a:ext cx="1081080" cy="576360"/>
            <a:chOff x="2843280" y="2421000"/>
            <a:chExt cx="1081080" cy="576360"/>
          </a:xfrm>
        </p:grpSpPr>
        <p:sp>
          <p:nvSpPr>
            <p:cNvPr id="309" name=""/>
            <p:cNvSpPr/>
            <p:nvPr/>
          </p:nvSpPr>
          <p:spPr>
            <a:xfrm>
              <a:off x="2843280" y="270828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03640" y="2421000"/>
              <a:ext cx="72072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FPGA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2479680" y="3124080"/>
            <a:ext cx="0" cy="4460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33160" y="3657240"/>
            <a:ext cx="7924680" cy="2057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Support USB2.0/At this stage, USB 1.x is not supported at all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Support 32MB/sec across the USB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All samples sent over the USB interface are in 16-bit signed integers in IQ format,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16-bit I and 16-bit Q data (complex), resulting in 8M complex samples/sec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across the USB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995480" y="2085840"/>
            <a:ext cx="3641760" cy="115272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ecff"/>
                </a:solidFill>
                <a:latin typeface="Arial"/>
              </a:rPr>
              <a:t>Architecture </a:t>
            </a:r>
            <a:r>
              <a:rPr b="0" lang="zh-TW" sz="2400" spc="-1" strike="noStrike">
                <a:solidFill>
                  <a:srgbClr val="ccecff"/>
                </a:solidFill>
                <a:latin typeface="Arial"/>
              </a:rPr>
              <a:t>– Hardware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22200" y="2131920"/>
            <a:ext cx="1441440" cy="108108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User-defined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5508720" y="2347920"/>
            <a:ext cx="1800000" cy="792000"/>
            <a:chOff x="5508720" y="2347920"/>
            <a:chExt cx="1800000" cy="792000"/>
          </a:xfrm>
        </p:grpSpPr>
        <p:sp>
          <p:nvSpPr>
            <p:cNvPr id="317" name=""/>
            <p:cNvSpPr/>
            <p:nvPr/>
          </p:nvSpPr>
          <p:spPr>
            <a:xfrm>
              <a:off x="6084720" y="2347920"/>
              <a:ext cx="1224000" cy="792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RF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Front end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508720" y="2708280"/>
              <a:ext cx="50472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7381800" y="2349000"/>
            <a:ext cx="1617840" cy="359280"/>
            <a:chOff x="7381800" y="2349000"/>
            <a:chExt cx="1617840" cy="359280"/>
          </a:xfrm>
        </p:grpSpPr>
        <p:sp>
          <p:nvSpPr>
            <p:cNvPr id="320" name=""/>
            <p:cNvSpPr/>
            <p:nvPr/>
          </p:nvSpPr>
          <p:spPr>
            <a:xfrm>
              <a:off x="7381800" y="2708280"/>
              <a:ext cx="5050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101080" y="2708280"/>
              <a:ext cx="64764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8748720" y="2349000"/>
              <a:ext cx="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 flipV="1">
              <a:off x="8531280" y="2349000"/>
              <a:ext cx="21744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8748720" y="2349000"/>
              <a:ext cx="25092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3995640" y="2419200"/>
            <a:ext cx="1439640" cy="576360"/>
            <a:chOff x="3995640" y="2419200"/>
            <a:chExt cx="1439640" cy="576360"/>
          </a:xfrm>
        </p:grpSpPr>
        <p:sp>
          <p:nvSpPr>
            <p:cNvPr id="326" name=""/>
            <p:cNvSpPr/>
            <p:nvPr/>
          </p:nvSpPr>
          <p:spPr>
            <a:xfrm>
              <a:off x="3995640" y="2681280"/>
              <a:ext cx="43920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559040" y="2419200"/>
              <a:ext cx="87624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DAC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1835280" y="2421000"/>
            <a:ext cx="936360" cy="576360"/>
            <a:chOff x="1835280" y="2421000"/>
            <a:chExt cx="936360" cy="576360"/>
          </a:xfrm>
        </p:grpSpPr>
        <p:sp>
          <p:nvSpPr>
            <p:cNvPr id="329" name=""/>
            <p:cNvSpPr/>
            <p:nvPr/>
          </p:nvSpPr>
          <p:spPr>
            <a:xfrm>
              <a:off x="2197080" y="2421000"/>
              <a:ext cx="57456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USB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835280" y="270828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2843280" y="2421000"/>
            <a:ext cx="1081080" cy="576360"/>
            <a:chOff x="2843280" y="2421000"/>
            <a:chExt cx="1081080" cy="576360"/>
          </a:xfrm>
        </p:grpSpPr>
        <p:sp>
          <p:nvSpPr>
            <p:cNvPr id="332" name=""/>
            <p:cNvSpPr/>
            <p:nvPr/>
          </p:nvSpPr>
          <p:spPr>
            <a:xfrm>
              <a:off x="2843280" y="270828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203640" y="2421000"/>
              <a:ext cx="72072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FPGA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3505320" y="3135240"/>
            <a:ext cx="0" cy="4460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33160" y="3657240"/>
            <a:ext cx="7924680" cy="2895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Includes digital down converters (DDC) implemented with cascaded integrator-comb (CIC) filters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eaeaea"/>
                </a:solidFill>
                <a:latin typeface="Arial"/>
              </a:rPr>
              <a:t>DDC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Down converts the signal from the IF band to the base band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Decimates the signal so that the data rate can be adapted by the USB 2.0 and is reasonable for the computers' computing capability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Digital up converters (DUCs) on the transmit side are actually contained in the AD9862 CODEC chips, not in the FPGA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The only transmit signal processing blocks in the FPGA are the interpolators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995480" y="2085840"/>
            <a:ext cx="3641760" cy="115272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ecff"/>
                </a:solidFill>
                <a:latin typeface="Arial"/>
              </a:rPr>
              <a:t>Architecture </a:t>
            </a:r>
            <a:r>
              <a:rPr b="0" lang="zh-TW" sz="2400" spc="-1" strike="noStrike">
                <a:solidFill>
                  <a:srgbClr val="ccecff"/>
                </a:solidFill>
                <a:latin typeface="Arial"/>
              </a:rPr>
              <a:t>– Hardware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22200" y="2131920"/>
            <a:ext cx="1441440" cy="108108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User-defined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5508720" y="2347920"/>
            <a:ext cx="1800000" cy="792000"/>
            <a:chOff x="5508720" y="2347920"/>
            <a:chExt cx="1800000" cy="792000"/>
          </a:xfrm>
        </p:grpSpPr>
        <p:sp>
          <p:nvSpPr>
            <p:cNvPr id="340" name=""/>
            <p:cNvSpPr/>
            <p:nvPr/>
          </p:nvSpPr>
          <p:spPr>
            <a:xfrm>
              <a:off x="6084720" y="2347920"/>
              <a:ext cx="1224000" cy="792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RF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Front end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508720" y="2708280"/>
              <a:ext cx="50472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7381800" y="2349000"/>
            <a:ext cx="1617840" cy="359280"/>
            <a:chOff x="7381800" y="2349000"/>
            <a:chExt cx="1617840" cy="359280"/>
          </a:xfrm>
        </p:grpSpPr>
        <p:sp>
          <p:nvSpPr>
            <p:cNvPr id="343" name=""/>
            <p:cNvSpPr/>
            <p:nvPr/>
          </p:nvSpPr>
          <p:spPr>
            <a:xfrm>
              <a:off x="7381800" y="2708280"/>
              <a:ext cx="5050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101080" y="2708280"/>
              <a:ext cx="64764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8748720" y="2349000"/>
              <a:ext cx="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 flipV="1">
              <a:off x="8531280" y="2349000"/>
              <a:ext cx="21744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8748720" y="2349000"/>
              <a:ext cx="25092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3995640" y="2419200"/>
            <a:ext cx="1439640" cy="576360"/>
            <a:chOff x="3995640" y="2419200"/>
            <a:chExt cx="1439640" cy="576360"/>
          </a:xfrm>
        </p:grpSpPr>
        <p:sp>
          <p:nvSpPr>
            <p:cNvPr id="349" name=""/>
            <p:cNvSpPr/>
            <p:nvPr/>
          </p:nvSpPr>
          <p:spPr>
            <a:xfrm>
              <a:off x="3995640" y="2681280"/>
              <a:ext cx="43920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559040" y="2419200"/>
              <a:ext cx="87624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DAC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1835280" y="2421000"/>
            <a:ext cx="936360" cy="576360"/>
            <a:chOff x="1835280" y="2421000"/>
            <a:chExt cx="936360" cy="576360"/>
          </a:xfrm>
        </p:grpSpPr>
        <p:sp>
          <p:nvSpPr>
            <p:cNvPr id="352" name=""/>
            <p:cNvSpPr/>
            <p:nvPr/>
          </p:nvSpPr>
          <p:spPr>
            <a:xfrm>
              <a:off x="2197080" y="2421000"/>
              <a:ext cx="57456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USB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835280" y="270828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2843280" y="2421000"/>
            <a:ext cx="1081080" cy="576360"/>
            <a:chOff x="2843280" y="2421000"/>
            <a:chExt cx="1081080" cy="576360"/>
          </a:xfrm>
        </p:grpSpPr>
        <p:sp>
          <p:nvSpPr>
            <p:cNvPr id="355" name=""/>
            <p:cNvSpPr/>
            <p:nvPr/>
          </p:nvSpPr>
          <p:spPr>
            <a:xfrm>
              <a:off x="2843280" y="270828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203640" y="2421000"/>
              <a:ext cx="72072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FPGA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5029200" y="3124080"/>
            <a:ext cx="0" cy="4460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3657600"/>
            <a:ext cx="7925040" cy="1295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4 high-speed 14-bit DA converters, DAC clock frequency is 128 MS/s </a:t>
            </a:r>
            <a:br>
              <a:rPr sz="1600"/>
            </a:b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(stay below about 50MHz or so to make filtering easier.)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4 high-speed 12-bit AD converters, sampling rate is 64M samples per second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995480" y="2085840"/>
            <a:ext cx="3641760" cy="115272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ecff"/>
                </a:solidFill>
                <a:latin typeface="Arial"/>
              </a:rPr>
              <a:t>Architecture </a:t>
            </a:r>
            <a:r>
              <a:rPr b="0" lang="zh-TW" sz="2400" spc="-1" strike="noStrike">
                <a:solidFill>
                  <a:srgbClr val="ccecff"/>
                </a:solidFill>
                <a:latin typeface="Arial"/>
              </a:rPr>
              <a:t>– Hardware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22200" y="2131920"/>
            <a:ext cx="1441440" cy="108108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User-defined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5508720" y="2347920"/>
            <a:ext cx="1800000" cy="792000"/>
            <a:chOff x="5508720" y="2347920"/>
            <a:chExt cx="1800000" cy="792000"/>
          </a:xfrm>
        </p:grpSpPr>
        <p:sp>
          <p:nvSpPr>
            <p:cNvPr id="363" name=""/>
            <p:cNvSpPr/>
            <p:nvPr/>
          </p:nvSpPr>
          <p:spPr>
            <a:xfrm>
              <a:off x="6084720" y="2347920"/>
              <a:ext cx="1224000" cy="792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RF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Front end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508720" y="2708280"/>
              <a:ext cx="50472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7381800" y="2349000"/>
            <a:ext cx="1617840" cy="359280"/>
            <a:chOff x="7381800" y="2349000"/>
            <a:chExt cx="1617840" cy="359280"/>
          </a:xfrm>
        </p:grpSpPr>
        <p:sp>
          <p:nvSpPr>
            <p:cNvPr id="366" name=""/>
            <p:cNvSpPr/>
            <p:nvPr/>
          </p:nvSpPr>
          <p:spPr>
            <a:xfrm>
              <a:off x="7381800" y="2708280"/>
              <a:ext cx="5050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101080" y="2708280"/>
              <a:ext cx="64764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8748720" y="2349000"/>
              <a:ext cx="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 flipV="1">
              <a:off x="8531280" y="2349000"/>
              <a:ext cx="21744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8748720" y="2349000"/>
              <a:ext cx="25092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3995640" y="2419200"/>
            <a:ext cx="1439640" cy="576360"/>
            <a:chOff x="3995640" y="2419200"/>
            <a:chExt cx="1439640" cy="576360"/>
          </a:xfrm>
        </p:grpSpPr>
        <p:sp>
          <p:nvSpPr>
            <p:cNvPr id="372" name=""/>
            <p:cNvSpPr/>
            <p:nvPr/>
          </p:nvSpPr>
          <p:spPr>
            <a:xfrm>
              <a:off x="3995640" y="2681280"/>
              <a:ext cx="43920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559040" y="2419200"/>
              <a:ext cx="87624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DAC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1835280" y="2421000"/>
            <a:ext cx="936360" cy="576360"/>
            <a:chOff x="1835280" y="2421000"/>
            <a:chExt cx="936360" cy="576360"/>
          </a:xfrm>
        </p:grpSpPr>
        <p:sp>
          <p:nvSpPr>
            <p:cNvPr id="375" name=""/>
            <p:cNvSpPr/>
            <p:nvPr/>
          </p:nvSpPr>
          <p:spPr>
            <a:xfrm>
              <a:off x="2197080" y="2421000"/>
              <a:ext cx="57456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USB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835280" y="270828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2843280" y="2421000"/>
            <a:ext cx="1081080" cy="576360"/>
            <a:chOff x="2843280" y="2421000"/>
            <a:chExt cx="1081080" cy="576360"/>
          </a:xfrm>
        </p:grpSpPr>
        <p:sp>
          <p:nvSpPr>
            <p:cNvPr id="378" name=""/>
            <p:cNvSpPr/>
            <p:nvPr/>
          </p:nvSpPr>
          <p:spPr>
            <a:xfrm>
              <a:off x="2843280" y="270828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203640" y="2421000"/>
              <a:ext cx="72072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FPGA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 flipH="1">
            <a:off x="6705720" y="3200400"/>
            <a:ext cx="1440" cy="4460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09480" y="3733560"/>
            <a:ext cx="7925040" cy="609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One mother board support  up to four daughter boards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2. Several kinds of daughter boards available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995480" y="2085840"/>
            <a:ext cx="3641760" cy="115272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rchitecture 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– Software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3581280"/>
            <a:ext cx="82263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NU radio has provided some useful AP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at we are interested in at this time is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how to use the existing module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that has been provided  in GNU radio project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to communicate between two end syste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22200" y="1725480"/>
            <a:ext cx="1441440" cy="108108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User-defined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5508720" y="1941480"/>
            <a:ext cx="1800000" cy="792000"/>
            <a:chOff x="5508720" y="1941480"/>
            <a:chExt cx="1800000" cy="792000"/>
          </a:xfrm>
        </p:grpSpPr>
        <p:sp>
          <p:nvSpPr>
            <p:cNvPr id="387" name=""/>
            <p:cNvSpPr/>
            <p:nvPr/>
          </p:nvSpPr>
          <p:spPr>
            <a:xfrm>
              <a:off x="6084720" y="1941480"/>
              <a:ext cx="1224000" cy="792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RF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Front end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08720" y="2301840"/>
              <a:ext cx="50472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7381800" y="1943280"/>
            <a:ext cx="1617840" cy="358560"/>
            <a:chOff x="7381800" y="1943280"/>
            <a:chExt cx="1617840" cy="358560"/>
          </a:xfrm>
        </p:grpSpPr>
        <p:sp>
          <p:nvSpPr>
            <p:cNvPr id="390" name=""/>
            <p:cNvSpPr/>
            <p:nvPr/>
          </p:nvSpPr>
          <p:spPr>
            <a:xfrm>
              <a:off x="7381800" y="2301840"/>
              <a:ext cx="5050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101080" y="2301840"/>
              <a:ext cx="64764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8748720" y="1943280"/>
              <a:ext cx="0" cy="3585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flipV="1">
              <a:off x="8531280" y="1943280"/>
              <a:ext cx="217440" cy="3585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8748720" y="1943280"/>
              <a:ext cx="250920" cy="3585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457200" y="1295280"/>
            <a:ext cx="11206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nde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77920" y="1689120"/>
            <a:ext cx="1512720" cy="1152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3995640" y="2013120"/>
            <a:ext cx="1439640" cy="576000"/>
            <a:chOff x="3995640" y="2013120"/>
            <a:chExt cx="1439640" cy="576000"/>
          </a:xfrm>
        </p:grpSpPr>
        <p:sp>
          <p:nvSpPr>
            <p:cNvPr id="398" name=""/>
            <p:cNvSpPr/>
            <p:nvPr/>
          </p:nvSpPr>
          <p:spPr>
            <a:xfrm>
              <a:off x="3995640" y="2275200"/>
              <a:ext cx="43920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559040" y="2013120"/>
              <a:ext cx="876240" cy="576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DAC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1835280" y="2014560"/>
            <a:ext cx="936360" cy="576360"/>
            <a:chOff x="1835280" y="2014560"/>
            <a:chExt cx="936360" cy="576360"/>
          </a:xfrm>
        </p:grpSpPr>
        <p:sp>
          <p:nvSpPr>
            <p:cNvPr id="401" name=""/>
            <p:cNvSpPr/>
            <p:nvPr/>
          </p:nvSpPr>
          <p:spPr>
            <a:xfrm>
              <a:off x="2197080" y="2014560"/>
              <a:ext cx="57456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USB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835280" y="230184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2843280" y="2014560"/>
            <a:ext cx="1081080" cy="576360"/>
            <a:chOff x="2843280" y="2014560"/>
            <a:chExt cx="1081080" cy="576360"/>
          </a:xfrm>
        </p:grpSpPr>
        <p:sp>
          <p:nvSpPr>
            <p:cNvPr id="404" name=""/>
            <p:cNvSpPr/>
            <p:nvPr/>
          </p:nvSpPr>
          <p:spPr>
            <a:xfrm>
              <a:off x="2843280" y="230184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203640" y="2014560"/>
              <a:ext cx="72072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FPGA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1219320" y="2971800"/>
            <a:ext cx="53316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600200" y="2666880"/>
            <a:ext cx="762120" cy="91440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rchitecture 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– Software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ow these modules co-work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++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rformance-critical modul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yth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cc66"/>
                </a:solidFill>
                <a:uFillTx/>
                <a:latin typeface="Arial"/>
              </a:rPr>
              <a:t>Glue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to connect modul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on performance-critical modul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rchitecture 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– Software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44956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t python level, what we need to do is always just to 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draw a diagram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showing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the signal flow from the source to the sink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in our mind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403280" y="1916280"/>
            <a:ext cx="433440" cy="43308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C++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28720" y="3139920"/>
            <a:ext cx="433440" cy="43344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C++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403280" y="1557360"/>
            <a:ext cx="504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V1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826920" y="2708280"/>
            <a:ext cx="505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V2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411280" y="2205000"/>
            <a:ext cx="505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V3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411280" y="2637000"/>
            <a:ext cx="433440" cy="43308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C++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708360" y="2133720"/>
            <a:ext cx="1440000" cy="1152360"/>
          </a:xfrm>
          <a:prstGeom prst="rightArrow">
            <a:avLst>
              <a:gd name="adj1" fmla="val 50000"/>
              <a:gd name="adj2" fmla="val 31240"/>
            </a:avLst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5724360" y="1628640"/>
            <a:ext cx="2089440" cy="2016360"/>
            <a:chOff x="5724360" y="1628640"/>
            <a:chExt cx="2089440" cy="2016360"/>
          </a:xfrm>
        </p:grpSpPr>
        <p:sp>
          <p:nvSpPr>
            <p:cNvPr id="420" name=""/>
            <p:cNvSpPr/>
            <p:nvPr/>
          </p:nvSpPr>
          <p:spPr>
            <a:xfrm>
              <a:off x="6300720" y="1987560"/>
              <a:ext cx="433440" cy="433440"/>
            </a:xfrm>
            <a:prstGeom prst="ellipse">
              <a:avLst/>
            </a:prstGeom>
            <a:solidFill>
              <a:srgbClr val="00cc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C++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726160" y="3211560"/>
              <a:ext cx="433440" cy="433440"/>
            </a:xfrm>
            <a:prstGeom prst="ellipse">
              <a:avLst/>
            </a:prstGeom>
            <a:solidFill>
              <a:srgbClr val="00cc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C++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300720" y="1628640"/>
              <a:ext cx="5047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V1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724360" y="2779560"/>
              <a:ext cx="505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V2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308720" y="2276640"/>
              <a:ext cx="5050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V3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308720" y="2708280"/>
              <a:ext cx="433440" cy="433440"/>
            </a:xfrm>
            <a:prstGeom prst="ellipse">
              <a:avLst/>
            </a:prstGeom>
            <a:solidFill>
              <a:srgbClr val="00cc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C++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6732720" y="2276640"/>
            <a:ext cx="647640" cy="50472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6013440" y="2492280"/>
            <a:ext cx="430200" cy="64944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292720" y="1628640"/>
            <a:ext cx="2735280" cy="223200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4067280" y="3284640"/>
            <a:ext cx="1657080" cy="358560"/>
            <a:chOff x="4067280" y="3284640"/>
            <a:chExt cx="1657080" cy="358560"/>
          </a:xfrm>
        </p:grpSpPr>
        <p:sp>
          <p:nvSpPr>
            <p:cNvPr id="430" name=""/>
            <p:cNvSpPr/>
            <p:nvPr/>
          </p:nvSpPr>
          <p:spPr>
            <a:xfrm>
              <a:off x="4067280" y="3284640"/>
              <a:ext cx="107928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ecff"/>
                  </a:solidFill>
                  <a:latin typeface="Arial"/>
                </a:rPr>
                <a:t>Source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076720" y="3500280"/>
              <a:ext cx="64764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7812000" y="2781360"/>
            <a:ext cx="1224000" cy="288720"/>
            <a:chOff x="7812000" y="2781360"/>
            <a:chExt cx="1224000" cy="288720"/>
          </a:xfrm>
        </p:grpSpPr>
        <p:sp>
          <p:nvSpPr>
            <p:cNvPr id="433" name=""/>
            <p:cNvSpPr/>
            <p:nvPr/>
          </p:nvSpPr>
          <p:spPr>
            <a:xfrm>
              <a:off x="7812000" y="2924280"/>
              <a:ext cx="57636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388360" y="2781360"/>
              <a:ext cx="64764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ecff"/>
                  </a:solidFill>
                  <a:latin typeface="Arial"/>
                </a:rPr>
                <a:t>Sink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SPE (Stani’s Python Editor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Fre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Lack of powerful debug tool (breakpoint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7007400" cy="4378320"/>
          </a:xfrm>
          <a:prstGeom prst="rect">
            <a:avLst/>
          </a:prstGeom>
          <a:ln w="0">
            <a:noFill/>
          </a:ln>
        </p:spPr>
      </p:pic>
      <p:sp>
        <p:nvSpPr>
          <p:cNvPr id="437" name="PlaceHolder 2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evelopment environment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900000" y="3141720"/>
            <a:ext cx="1584360" cy="2303280"/>
            <a:chOff x="900000" y="3141720"/>
            <a:chExt cx="1584360" cy="2303280"/>
          </a:xfrm>
        </p:grpSpPr>
        <p:sp>
          <p:nvSpPr>
            <p:cNvPr id="439" name=""/>
            <p:cNvSpPr/>
            <p:nvPr/>
          </p:nvSpPr>
          <p:spPr>
            <a:xfrm>
              <a:off x="900000" y="3141720"/>
              <a:ext cx="1584360" cy="23032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116000" y="3933720"/>
              <a:ext cx="122400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xplorer of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ject and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ass members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2843280" y="3141720"/>
            <a:ext cx="4897440" cy="2303280"/>
            <a:chOff x="2843280" y="3141720"/>
            <a:chExt cx="4897440" cy="2303280"/>
          </a:xfrm>
        </p:grpSpPr>
        <p:sp>
          <p:nvSpPr>
            <p:cNvPr id="442" name=""/>
            <p:cNvSpPr/>
            <p:nvPr/>
          </p:nvSpPr>
          <p:spPr>
            <a:xfrm>
              <a:off x="2843280" y="3141720"/>
              <a:ext cx="4897440" cy="23032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940360" y="4508640"/>
              <a:ext cx="122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de editor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900000" y="5661000"/>
            <a:ext cx="6767640" cy="647640"/>
            <a:chOff x="900000" y="5661000"/>
            <a:chExt cx="6767640" cy="647640"/>
          </a:xfrm>
        </p:grpSpPr>
        <p:sp>
          <p:nvSpPr>
            <p:cNvPr id="445" name=""/>
            <p:cNvSpPr/>
            <p:nvPr/>
          </p:nvSpPr>
          <p:spPr>
            <a:xfrm>
              <a:off x="900000" y="5661000"/>
              <a:ext cx="6767640" cy="6476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211640" y="5734080"/>
              <a:ext cx="33130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rpreter &amp; debug window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760" y="463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7772400" cy="509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Why GNU Radio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Extensive knowledge involv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What is implemented currentl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Architectu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Development environ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Development Board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Current Issu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What is next?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evelopment environment (cont.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Wingwa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More powerfu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For personal version, the license fee to two stations are $60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7274160" cy="4500720"/>
          </a:xfrm>
          <a:prstGeom prst="rect">
            <a:avLst/>
          </a:prstGeom>
          <a:ln w="0">
            <a:noFill/>
          </a:ln>
        </p:spPr>
      </p:pic>
      <p:grpSp>
        <p:nvGrpSpPr>
          <p:cNvPr id="450" name=""/>
          <p:cNvGrpSpPr/>
          <p:nvPr/>
        </p:nvGrpSpPr>
        <p:grpSpPr>
          <a:xfrm>
            <a:off x="900000" y="3284640"/>
            <a:ext cx="5184720" cy="1873080"/>
            <a:chOff x="900000" y="3284640"/>
            <a:chExt cx="5184720" cy="1873080"/>
          </a:xfrm>
        </p:grpSpPr>
        <p:sp>
          <p:nvSpPr>
            <p:cNvPr id="451" name=""/>
            <p:cNvSpPr/>
            <p:nvPr/>
          </p:nvSpPr>
          <p:spPr>
            <a:xfrm>
              <a:off x="900000" y="3284640"/>
              <a:ext cx="5184720" cy="18730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570560" y="3500280"/>
              <a:ext cx="129672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de editor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3564000" y="5589720"/>
            <a:ext cx="2663640" cy="718920"/>
            <a:chOff x="3564000" y="5589720"/>
            <a:chExt cx="2663640" cy="718920"/>
          </a:xfrm>
        </p:grpSpPr>
        <p:sp>
          <p:nvSpPr>
            <p:cNvPr id="454" name=""/>
            <p:cNvSpPr/>
            <p:nvPr/>
          </p:nvSpPr>
          <p:spPr>
            <a:xfrm>
              <a:off x="3564000" y="5589720"/>
              <a:ext cx="2663640" cy="6476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859280" y="5805360"/>
              <a:ext cx="130500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rpreter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6443640" y="2997360"/>
            <a:ext cx="1584360" cy="3384000"/>
            <a:chOff x="6443640" y="2997360"/>
            <a:chExt cx="1584360" cy="3384000"/>
          </a:xfrm>
        </p:grpSpPr>
        <p:sp>
          <p:nvSpPr>
            <p:cNvPr id="457" name=""/>
            <p:cNvSpPr/>
            <p:nvPr/>
          </p:nvSpPr>
          <p:spPr>
            <a:xfrm>
              <a:off x="6443640" y="2997360"/>
              <a:ext cx="1584360" cy="33840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659640" y="4160880"/>
              <a:ext cx="1224000" cy="73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xplorer of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ject and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ass members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826920" y="5373720"/>
            <a:ext cx="2665440" cy="1150920"/>
            <a:chOff x="826920" y="5373720"/>
            <a:chExt cx="2665440" cy="1150920"/>
          </a:xfrm>
        </p:grpSpPr>
        <p:sp>
          <p:nvSpPr>
            <p:cNvPr id="460" name=""/>
            <p:cNvSpPr/>
            <p:nvPr/>
          </p:nvSpPr>
          <p:spPr>
            <a:xfrm>
              <a:off x="826920" y="5373720"/>
              <a:ext cx="2665440" cy="11509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47640" y="5877000"/>
              <a:ext cx="122400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bug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formation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Development Boar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911160" y="1606680"/>
          <a:ext cx="7391520" cy="4746600"/>
        </p:xfrm>
        <a:graphic>
          <a:graphicData uri="http://schemas.openxmlformats.org/drawingml/2006/table">
            <a:tbl>
              <a:tblPr/>
              <a:tblGrid>
                <a:gridCol w="6126120"/>
                <a:gridCol w="126540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Verdana"/>
                          <a:ea typeface="Aria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USRP Motherboard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$700.00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BasicTX -- 2 MHz to 200 MHz Transmitter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$75.00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BasicRX -- 2 MHz to 300+ MHz Receiver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$75.00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LFTX -- DC-30 MHz Transmitter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$75.00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LFRX -- DC-30 MHz Receiver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$75.00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TVRX -- 50 MHz to 870 MHz Receiver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$100.00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DBSRX -- 800 MHz to 2.4 GHz Receiver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$150.00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RFX400 -- 400-500 MHz Transceiver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$275.00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RFX900 -- 800-1000MHz Transceiver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$275.00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RFX1200 -- 1150 MHz - 1450 MHz Transceiver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$275.00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RFX1800 -- 1.5-2.1 GHz Transceiver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$275.00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RFX2400 -- 2.3-2.9 GHz Transceiver, 20+mW output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$275.00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77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USRP Motherboard</a:t>
            </a: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43196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Four 64 MS/s 12-bit analog to digital Converter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Four 128 MS/s 14-bit digital to analog Converter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Four digital downconverters with programmable decimation rate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Two digital upconverters with programmable interpolation rate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High-speed USB 2.0 interface (480 Mb/s)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Capable of processing signals up to 16 MHz wide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Modular architecture supports wide variety of RF daughterboard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Auxiliary analog and digital I/O support complex radio controls such as RSSI and AGC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Fully coherent multi-channel systems (MIMO capable)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743280" cy="367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4360" y="35604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BasicTX</a:t>
            </a:r>
            <a:br>
              <a:rPr sz="4400"/>
            </a:br>
            <a:r>
              <a:rPr b="0" lang="en-GB" sz="2800" spc="-1" strike="noStrike">
                <a:solidFill>
                  <a:srgbClr val="ccecff"/>
                </a:solidFill>
                <a:latin typeface="Verdana"/>
              </a:rPr>
              <a:t>2 MHz to 200 MHz Transmitter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3792240" cy="46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signed for use with external RF frontends as an intermediate frequency (IF) interfac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AC outputs are directly transformer-coupled to SMA connectors (50Ω impedanc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irect access to all of the signals on the daughterboard interfa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5029200" y="1905120"/>
            <a:ext cx="3790800" cy="37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4360" y="42768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BasicRX</a:t>
            </a:r>
            <a:br>
              <a:rPr sz="4400"/>
            </a:br>
            <a:r>
              <a:rPr b="0" lang="en-GB" sz="2800" spc="-1" strike="noStrike">
                <a:solidFill>
                  <a:srgbClr val="ccecff"/>
                </a:solidFill>
                <a:latin typeface="Verdana"/>
              </a:rPr>
              <a:t>2 MHz to 300+ MHz Receiver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3792600" cy="42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signed for use with external RF frontends as an intermediate frequency (IF) interfac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ADC inputs are directly transformer-coupled to SMA connectors (50Ω impedance)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irect access to all of the signals on the daughterboard interfa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3790800" cy="333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4360" y="35604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LFTX</a:t>
            </a:r>
            <a:br>
              <a:rPr sz="4400"/>
            </a:br>
            <a:r>
              <a:rPr b="0" lang="en-GB" sz="2800" spc="-1" strike="noStrike">
                <a:solidFill>
                  <a:srgbClr val="ccecff"/>
                </a:solidFill>
                <a:latin typeface="Verdana"/>
              </a:rPr>
              <a:t>DC-30 MHz Transmitter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3792600" cy="42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very similar to the BasicTX and BasicRX, respectively, with 2 main differenc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Use differential amplifiers instead of transformers, their frequency response extends down to DC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have 30 MHz low pass filters for antialiasing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4572000" y="2362320"/>
            <a:ext cx="3790800" cy="28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4360" y="35604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LFRX</a:t>
            </a:r>
            <a:br>
              <a:rPr sz="4400"/>
            </a:br>
            <a:r>
              <a:rPr b="0" lang="en-GB" sz="2800" spc="-1" strike="noStrike">
                <a:solidFill>
                  <a:srgbClr val="ccecff"/>
                </a:solidFill>
                <a:latin typeface="Verdana"/>
              </a:rPr>
              <a:t>DC-30 MHz Receiver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3792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very similar to the BasicTX and BasicRX, respectively, with 2 main differenc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Use differential amplifiers instead of transformers, their frequency response extends down to DC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have 30 MHz low pass filters for antialiasing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4360" y="25920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TVRX</a:t>
            </a:r>
            <a:br>
              <a:rPr sz="4400"/>
            </a:br>
            <a:r>
              <a:rPr b="0" lang="en-GB" sz="2800" spc="-1" strike="noStrike">
                <a:solidFill>
                  <a:srgbClr val="ccecff"/>
                </a:solidFill>
                <a:latin typeface="Verdana"/>
              </a:rPr>
              <a:t>50 MHz to 870 MHz Receiver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546120" y="1626840"/>
            <a:ext cx="3930480" cy="42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a complete VHF and UHF receiver system based on a TV tuner modul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can receive a 6 MHz wide block of spectrum from anywhere in the 50-860 MHz rang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All tuning and AGC functions can be controlled from softwar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57200" y="6172200"/>
            <a:ext cx="77724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8600" y="5943600"/>
            <a:ext cx="8686800" cy="6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741240" indent="-284040">
              <a:lnSpc>
                <a:spcPct val="11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1311120"/>
                <a:tab algn="l" pos="2225520"/>
                <a:tab algn="l" pos="3139920"/>
                <a:tab algn="l" pos="4054320"/>
                <a:tab algn="l" pos="4968720"/>
                <a:tab algn="l" pos="5883120"/>
                <a:tab algn="l" pos="6797520"/>
                <a:tab algn="l" pos="7711920"/>
                <a:tab algn="l" pos="8626320"/>
                <a:tab algn="l" pos="9540720"/>
                <a:tab algn="l" pos="1045512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te: The TVRX is the only daughterboard which is NOT MIMO capable. A MIMO capable version is expected in Q1 2007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4724280" y="2438280"/>
            <a:ext cx="3791160" cy="235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DBSRX</a:t>
            </a:r>
            <a:br>
              <a:rPr sz="4400"/>
            </a:br>
            <a:r>
              <a:rPr b="0" lang="en-GB" sz="2800" spc="-1" strike="noStrike">
                <a:solidFill>
                  <a:srgbClr val="ccecff"/>
                </a:solidFill>
                <a:latin typeface="Verdana"/>
              </a:rPr>
              <a:t>800 MHz to 2.4 GHz Receiver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76280" y="1771560"/>
            <a:ext cx="4232160" cy="42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a complete receiver system for 800 MHz to 2.4 GHz with a 3-5 dB noise figur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features a software controllable channel filter as narrow as 1 MHz, or as wide as 60 MHz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IMO capable, and can power an active antenna via the coax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85800" y="6172200"/>
            <a:ext cx="77724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ote: The DBSRX is NOT guaranteed to cover the 2.4-2.48 GHz ISM band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3790800" cy="342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4360" y="35604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RFX400</a:t>
            </a:r>
            <a:br>
              <a:rPr sz="4400"/>
            </a:br>
            <a:r>
              <a:rPr b="0" lang="en-GB" sz="2800" spc="-1" strike="noStrike">
                <a:solidFill>
                  <a:srgbClr val="ccecff"/>
                </a:solidFill>
                <a:latin typeface="Verdana"/>
              </a:rPr>
              <a:t>400-500 MHz Transceiver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4896000" cy="42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100+mW output (20dBm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ideal for UHF TV, public safety and land-mobile communications, low-power unlicensed devices (like key-fobs), wireless sensor networks (motes), and amateur radio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inor modifications to the board can move the frequency range to anywhere from 200 MHz to 800 MHz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1"/>
          <a:stretch/>
        </p:blipFill>
        <p:spPr>
          <a:xfrm>
            <a:off x="5745240" y="1905120"/>
            <a:ext cx="240804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7486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ecff"/>
                </a:solidFill>
                <a:latin typeface="Arial"/>
              </a:rPr>
              <a:t>Why GNU Radio?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11280" y="907920"/>
            <a:ext cx="7772400" cy="56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Arial"/>
              </a:rPr>
              <a:t>Almost free!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All the software are free (Python and C++ source code/linux environment)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In most condition, no need expensive RF test machine!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No need to purchase development and emulation tool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Only a development board needed (Universal Software Radio Peripheral)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Arial"/>
              </a:rPr>
              <a:t>Flexibl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Software: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reconfigurable for many other modulation methods for both standardize radio or self-defined radio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it is possible to improve the quality of the received signal by utilizing, in software, certain mathematical algorithm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Hardware: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Arial"/>
              </a:rPr>
              <a:t>Rx and Tx are selectable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Arial"/>
              </a:rPr>
              <a:t>Intermediate frequency is controllable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Arial"/>
              </a:rPr>
              <a:t>Best choice for research use and radio amateur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RFX900</a:t>
            </a:r>
            <a:br>
              <a:rPr sz="4400"/>
            </a:b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ccecff"/>
                </a:solidFill>
                <a:latin typeface="Verdana"/>
              </a:rPr>
              <a:t>800-1000MHz Transceiver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ccecff"/>
              </a:buClr>
              <a:buSzPct val="115000"/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200+mW output (23dBm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with a 902-928 MHz ISM-band filter installed for filtering strong out-of-band signals (like pagers)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The filter can easily be bypassed to allow usage over the full frequency range, enabling use with cellular, paging, motes, and two-way radio, in addition to the ISM band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461880"/>
            <a:ext cx="7770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RFX1200</a:t>
            </a:r>
            <a:br>
              <a:rPr sz="4400"/>
            </a:b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ccecff"/>
                </a:solidFill>
                <a:latin typeface="Verdana"/>
              </a:rPr>
              <a:t>1150 MHz - 1450 MHz Transceiver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55280" y="2420640"/>
            <a:ext cx="403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200+mW output (23dBm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Coverage of navigation, satellite, and amateur band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5486400" y="2133720"/>
            <a:ext cx="2487600" cy="432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RFX1800</a:t>
            </a:r>
            <a:br>
              <a:rPr sz="4400"/>
            </a:b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ccecff"/>
                </a:solidFill>
                <a:latin typeface="Verdana"/>
              </a:rPr>
              <a:t>1.5-2.1 GHz Transceiver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45760" y="2203560"/>
            <a:ext cx="7924680" cy="14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ccecff"/>
              </a:buClr>
              <a:buSzPct val="115000"/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100+mW output (20dBm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Coverage of DECT, US-DECT, and PCS (including unlicensed) frequenci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4000" y="403560"/>
            <a:ext cx="77706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RFX2400</a:t>
            </a:r>
            <a:br>
              <a:rPr sz="2800"/>
            </a:br>
            <a:r>
              <a:rPr b="0" lang="en-GB" sz="2800" spc="-1" strike="noStrike">
                <a:solidFill>
                  <a:srgbClr val="ccecff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ccecff"/>
                </a:solidFill>
                <a:latin typeface="Arial"/>
              </a:rPr>
              <a:t>2.3-2.9 GHz Transceiver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826560" y="1844280"/>
            <a:ext cx="4032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50mW output (17dBm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with a bandpass filter around the ISM band (2400-2483 MHz)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The filter can be easily bypassed, allowing for coverage of the full frequency rang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5486400" y="1752480"/>
            <a:ext cx="2712960" cy="471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m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811920" y="2319480"/>
            <a:ext cx="1036800" cy="728640"/>
          </a:xfrm>
          <a:prstGeom prst="rect">
            <a:avLst/>
          </a:prstGeom>
          <a:solidFill>
            <a:srgbClr val="cce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a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971800" y="2286000"/>
            <a:ext cx="1162080" cy="762120"/>
          </a:xfrm>
          <a:prstGeom prst="rect">
            <a:avLst/>
          </a:prstGeom>
          <a:solidFill>
            <a:srgbClr val="cce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a"/>
                </a:solidFill>
                <a:latin typeface="Arial"/>
              </a:rPr>
              <a:t>JPEG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a"/>
                </a:solidFill>
                <a:latin typeface="Arial"/>
              </a:rPr>
              <a:t>Encoder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590920" y="2725560"/>
            <a:ext cx="27468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267080" y="2725560"/>
            <a:ext cx="27468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648320" y="2133720"/>
            <a:ext cx="1569960" cy="990360"/>
          </a:xfrm>
          <a:prstGeom prst="rect">
            <a:avLst/>
          </a:prstGeom>
          <a:solidFill>
            <a:srgbClr val="cce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a"/>
                </a:solidFill>
                <a:latin typeface="Arial"/>
              </a:rPr>
              <a:t>Modulatio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914400" y="2209680"/>
            <a:ext cx="1523880" cy="990720"/>
          </a:xfrm>
          <a:prstGeom prst="can">
            <a:avLst>
              <a:gd name="adj" fmla="val 25000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Hard Disk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354720" y="2743200"/>
            <a:ext cx="27468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811920" y="5214960"/>
            <a:ext cx="1036800" cy="728640"/>
          </a:xfrm>
          <a:prstGeom prst="rect">
            <a:avLst/>
          </a:prstGeom>
          <a:solidFill>
            <a:srgbClr val="cce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a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66880" y="5029200"/>
            <a:ext cx="1524240" cy="990720"/>
          </a:xfrm>
          <a:prstGeom prst="can">
            <a:avLst>
              <a:gd name="adj" fmla="val 25000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Hard Disk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6370200" y="5638680"/>
            <a:ext cx="25884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315200" y="3276720"/>
            <a:ext cx="0" cy="167616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4266720" y="5638680"/>
            <a:ext cx="25884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648320" y="5105520"/>
            <a:ext cx="1569960" cy="990360"/>
          </a:xfrm>
          <a:prstGeom prst="rect">
            <a:avLst/>
          </a:prstGeom>
          <a:solidFill>
            <a:srgbClr val="cce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a"/>
                </a:solidFill>
                <a:latin typeface="Arial"/>
              </a:rPr>
              <a:t>Demodulatio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mo (cont.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143000" y="1219320"/>
            <a:ext cx="1066680" cy="685800"/>
          </a:xfrm>
          <a:prstGeom prst="rect">
            <a:avLst/>
          </a:prstGeom>
          <a:solidFill>
            <a:srgbClr val="cce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a"/>
                </a:solidFill>
                <a:latin typeface="Arial"/>
              </a:rPr>
              <a:t>Modulation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286000" y="1600200"/>
            <a:ext cx="60948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143000" y="4038480"/>
            <a:ext cx="1143000" cy="685800"/>
          </a:xfrm>
          <a:prstGeom prst="rect">
            <a:avLst/>
          </a:prstGeom>
          <a:solidFill>
            <a:srgbClr val="cce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a"/>
                </a:solidFill>
                <a:latin typeface="Arial"/>
              </a:rPr>
              <a:t>Demodulation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2361960" y="4419720"/>
            <a:ext cx="68580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57200" y="1600200"/>
            <a:ext cx="60948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380520" y="4419720"/>
            <a:ext cx="68580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228600" y="2133720"/>
            <a:ext cx="8686800" cy="1523880"/>
            <a:chOff x="228600" y="2133720"/>
            <a:chExt cx="8686800" cy="1523880"/>
          </a:xfrm>
        </p:grpSpPr>
        <p:sp>
          <p:nvSpPr>
            <p:cNvPr id="522" name=""/>
            <p:cNvSpPr/>
            <p:nvPr/>
          </p:nvSpPr>
          <p:spPr>
            <a:xfrm>
              <a:off x="1143000" y="2514600"/>
              <a:ext cx="1162080" cy="7621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Bit to Byte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438280" y="295416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343400" y="297180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819520" y="2438280"/>
              <a:ext cx="1447560" cy="914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Gray code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Encoder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02440" y="297180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678200" y="2438280"/>
              <a:ext cx="1447920" cy="914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Differential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Encoder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629400" y="2438280"/>
              <a:ext cx="1447920" cy="914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Real to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Complex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458200" y="2971800"/>
              <a:ext cx="45720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28600" y="2971800"/>
              <a:ext cx="53352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62120" y="2133720"/>
              <a:ext cx="7696080" cy="15238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228600" y="4876920"/>
            <a:ext cx="8838720" cy="1523880"/>
            <a:chOff x="228600" y="4876920"/>
            <a:chExt cx="8838720" cy="1523880"/>
          </a:xfrm>
        </p:grpSpPr>
        <p:sp>
          <p:nvSpPr>
            <p:cNvPr id="533" name=""/>
            <p:cNvSpPr/>
            <p:nvPr/>
          </p:nvSpPr>
          <p:spPr>
            <a:xfrm>
              <a:off x="1066680" y="5181480"/>
              <a:ext cx="1162080" cy="7621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Byte to Bit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743200" y="5105520"/>
              <a:ext cx="1447920" cy="914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Gray code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Decoder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602240" y="5105520"/>
              <a:ext cx="1447560" cy="914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Differential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Decoder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553080" y="5105520"/>
              <a:ext cx="1447920" cy="914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Real to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Complex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6095520" y="5562720"/>
              <a:ext cx="30492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>
              <a:off x="4191120" y="5562720"/>
              <a:ext cx="30456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2362320" y="5562720"/>
              <a:ext cx="30456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>
              <a:off x="228600" y="5562720"/>
              <a:ext cx="53352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>
              <a:off x="8534160" y="5562720"/>
              <a:ext cx="53316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62120" y="4876920"/>
              <a:ext cx="7696080" cy="15238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5760" y="463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Current issu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4000" y="1982520"/>
            <a:ext cx="7777080" cy="27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Need a USRP + Microtune 4937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Need a python 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A long way to be commercializ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High performance CPU requi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The software is still under develop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at is next?</a:t>
            </a:r>
            <a:br>
              <a:rPr sz="4000"/>
            </a:b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--possible applications and issue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clock recovery block doesn’t work in the DBPSK modul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dd more functions, such as DQPSK, FSK… into our dem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e may test the transmission by actual wireless connection, since receiver doesn’t ensure correct demodulation, for example, carrier tracking, clock recovery, we may need to add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yclic redundancy check (CRC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transmission control (ARQ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d on what we have done, we may deploy a research-oriented project next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760" y="528120"/>
            <a:ext cx="8229600" cy="6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9840" indent="0" algn="ctr">
              <a:lnSpc>
                <a:spcPct val="116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10058400"/>
              </a:tabLst>
            </a:pPr>
            <a:r>
              <a:rPr b="0" lang="en-GB" sz="3600" spc="-1" strike="noStrike">
                <a:solidFill>
                  <a:srgbClr val="ccecff"/>
                </a:solidFill>
                <a:latin typeface="Arial"/>
              </a:rPr>
              <a:t>Extensive knowledge involved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77724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116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Software and environment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16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Python/Numeric python library/wxPyth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16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C++/boost C++ librati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16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Linux environment and lots of support packages: FFTW/cppunit/SWIG/SDCC/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16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GNU Radio architectur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116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Communications and RF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16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DSP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16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Digital communic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16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Wireless communications theor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16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FPGA and Assemble language may be use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528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What is implemented currentl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7772400" cy="49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116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Base Syste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16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rovides the runtime and various signal processing primitives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116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Hardware Suppor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16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Universal Software Radio Peripheral (USRP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116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Audio Device Suppor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16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ALSA (Advanced Linux Sound Architecture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16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OSS (Open Sound System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116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Graphics Suppor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16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wxPython based GUI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16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SDL video librar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116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General Signal Processing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116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Specialty Application Area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ibra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mmunication related implement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M demodul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fferential BPSK / QPS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MSK modulation / demodul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arrow band FM transmitter / receiver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ide band FM transmitter &amp; broadcast FM receiv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ibrary (cont.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GNU radio utiliti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CRC gen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Socket setup (TCP / UDP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Compute frequency response of a digital fil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Control National IMX2306 &amp; SDR-1000 frequency synthesiz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Some utiliti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Arial"/>
              </a:rPr>
              <a:t>Convert unsigned mask into signed integ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Arial"/>
              </a:rPr>
              <a:t>Gcd, Lcm, Log2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Arial"/>
              </a:rPr>
              <a:t>Return input ‘x’ that is reverse ord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ibrary (cont.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GUI exampl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Provide window application for different usag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FFT sink tes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wxPython EditBox, Slid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Draw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Waterfall sink tes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Oscilloscope Test Applic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ibrary (cont.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pag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Create USRP source object supplying complex floa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Flex pager protocol demodulation bloc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ress</cp:lastModifiedBy>
  <dcterms:modified xsi:type="dcterms:W3CDTF">2006-12-09T21:34:21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